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996-F878-4121-9761-DE60AB55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EB6-C32A-4751-88E5-5EEB8DBB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2285D-C934-4B96-9BF4-2B319BC2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F16A3-8ACB-4811-9880-276816B5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4A5D3-D16B-423F-BBE1-A622A878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C985E-A4C3-4B95-872F-8B70A622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3711F-BFE2-4B09-983B-0E5BA6EC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3517A-78E5-48CE-84CC-2C341F45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C6F9-875D-499F-BC41-A9E4C3EA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AF3D4-F8CD-4DF7-ADA7-378842F7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84AF8-1A93-4A7D-916E-FE0F4FB7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35589-F873-4A86-A0CF-D3E35B8E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904-F840-40BD-90F0-CACC55E8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2707A-7DDB-42F6-AC38-A0A7BC20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960B2-1F3C-4E6A-8C1B-493B9AF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2CDB2-5907-407B-B50E-73F88BDC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503CD-9F2B-4A1D-9CFD-236FDAB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F22B4-2F20-4A9A-B6FE-6B5E9447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A4897-5E11-4BB0-9CCB-1E8DB437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7463A-0E2C-4588-B929-B4488D6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76136-6C75-4ADA-B393-6755728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25686-381B-4EED-A49A-5FF0BD9A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24671-E208-4CEE-BDDA-E7C5E9C8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731-E24D-4396-8FD8-90EFD4DA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2B76C-330B-42EC-8448-7B8D8F2A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35B50-CF9D-4214-BBDB-7B990130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8CBAE-AD22-41F1-9067-11DC7C96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74234-8CEA-49BF-A6A4-765DF080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5AB24-E272-4903-BF7D-0543DFDD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9D105-E646-4F8F-9AF5-ADD7D993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007E1-C0AC-4B38-953A-07CCCFFD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2E128-C637-4CAF-92A3-6968B682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2A4F3-4448-4846-9251-BB96E46E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34D36-18D9-4FAF-B381-376C08FE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FC51-0C89-4E23-939A-1AFC148A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C71D4-F9B3-47EE-9517-90BFEFFF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CCDE6-8B23-427F-B38B-34BE81B2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45C96-0BDE-4A08-96C7-F8240DF1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BD830-CB4D-4CD9-B365-28EB9FAF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2F03B-2C5A-4014-AF46-01678C3F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4F471-AB7C-4143-94DB-1288A51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D4C5F-2A4F-4C36-9705-9BBF4FF6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13888-F4B5-4767-A912-E633E7E1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2274A-B218-4432-99E0-0003FE4A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543D3-CC9A-432A-8DFE-39E44FD0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871B-CF50-487A-8715-DB176770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0C49E-9B25-44B9-A519-BE54202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5B098-7049-4941-8CB9-06F0BCD5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6C2E7-46BA-482E-99F9-8EFD5C32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C5253-9543-4C1A-8ED5-3314E683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78B0D-8C52-4E00-9B95-D8CC5CC0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8BD36-455B-440A-92BA-879E1F21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DBB7B-0A50-40CC-967D-EA5A68BE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E14FA-ED8F-4765-B1DA-73C91F36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509FC-0324-46AB-AA00-47162D08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4BB36-3796-4ED9-A6A6-4B165336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78F0-4F16-47A4-B82F-89336945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8DABA-51A9-4DEE-B31F-772E660E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D27C9-494A-48C6-B501-F13408EE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F1699-513B-455B-8259-E8EC7E27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D0E24-4DAB-44E7-89A6-95F26A6A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74FDE-BA62-438D-B890-5A44B08C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AFD09-0410-4E73-BE68-CB59B00E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EEAC9-9A88-4081-B66C-B90EB499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2D899-1B77-4ED4-974B-1E7C01B0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3A176-45EE-4CB8-B229-4FDC71D4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A619D-C133-44ED-8BEF-50632DA7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97F-AA34-4139-B5C4-E87AC60F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9A15D-986E-4C7D-870A-E7074C0F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5AE2C-9A4B-4173-8FFC-209CB2BA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4F484-1D9A-4CEA-9356-0E96F165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0F243-83AA-483B-9EB5-27CCDFA7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B8FD7-4074-4F0A-ABD0-6E3253E2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3FFCC-0634-4987-B392-85B022B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4EF78-FF76-4D75-B140-B4C268CE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C976A-6157-40D6-9EE2-C2E025BF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F4576-DF7D-4603-8CF4-2AE160A3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2FBC5-E5D4-49B9-9886-40E32398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0D57-43D1-4389-B8D1-88E4E0D0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5B0D1-68A2-4B11-A3EA-D01B00C5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B6C11-C693-49FC-97F5-56A43E60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AC33B-AAB2-4843-B2C2-C3CA01C3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41BF6-1148-49C1-A717-FF2B09AB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4A269-D06A-4AEC-B968-99F12E96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702A8-7786-4F95-BCAC-74AAC02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A771A-2BE6-48B7-9546-EDD3459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1EC2C-5471-48DF-B4FA-2191557E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8E085-FABD-4CF8-9813-69219F5A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F4D0B-6407-43B9-B70A-EC00A4D2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23A4-50F1-4E2C-841D-3B2CD03F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956C2-CDE5-4357-8BBD-77084AFA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490D2-097C-4689-9BF8-95C7D23E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F36F6-358C-49B6-B4AC-0ACCE388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3A17B-567F-4608-A491-92A69C44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B9E57-30F9-42C0-9EC9-3247112D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AD445-88C1-4017-BDC8-A8775F5E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79E42-0CBD-4CF8-BACD-586C23F1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CA432-24D9-4479-97CE-C8787450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B4A20-6BF7-4470-94F3-8E7405D0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1A3E5B-5132-4BA9-BC71-2471E9C9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A977-6FA1-43D2-B3B9-7EEAB65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74304-DF7A-4938-A7BC-BD070817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6C3B0-2CF9-4C1D-89B8-CF79A116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A3B59-375E-4522-B2DF-EA6C4EDB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B6082-F631-4825-8812-46FEC850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E2DF2-AB74-4370-AECB-FF91674F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1C8F6-3AB1-4070-8C73-29E5DF31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39E84-03BE-4851-B0EE-A4858B4E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6A72D-A405-4728-9CC4-55185804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3E459-684C-419A-A27E-E4AF9742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5B69B-E06E-4A74-BD51-7F744DA9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A11-1D28-42E3-B829-BD0DF718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31FF-24C5-4911-A712-A6A332D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E6ECE-15EC-4372-888C-61A4F43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630FF-7F6C-4D38-9A6A-8539E56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485FD-DF6A-4409-A174-DD26025B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F29C4-CE2D-4FD4-9729-9B15B643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8733F-A656-410D-BC9E-B4FA073B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C1C49-7274-4A83-9330-937BF868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EFDD1-F2D1-4386-B37D-1FC7713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26402D-3FCA-434B-8151-860A9F79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E0C47-07DE-44A2-9A03-1F349A16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2CADD-BEDF-41B8-9A3D-4E374460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A842-CD78-4143-B478-AC1F046D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4DB87-6467-4E48-8DC1-2B8EE519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1DDCB7-004E-49CE-954F-3D40CBF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1A452-69B5-47B4-9FD8-E141199F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853D17-C0CB-4CE5-ADB7-0EBDFA0A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8FA36-0486-4EF1-9872-4F3B5EFB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277CB-4A91-4040-A98E-78B706EF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DE079-DC87-4110-800C-B2FD673E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BC9D94-4EE4-4F0F-8F14-D43585D6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C4FD15-8DCB-4631-9C9E-1580305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7A61F-E373-4302-BE0B-2E50586D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7231-83EA-4E5C-BF34-BE65274A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E2702D-E609-45F1-AB7B-194049B5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9D9EB-70E7-4269-9877-7572A1A8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03FF2-F2B3-4432-9168-F351402B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2CE72-B31F-4791-B8C1-B542C466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9DF99-F865-46C5-A708-09B69232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6B82E-F45D-493D-9913-8806EE9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9BFD43-C5A9-4B1C-8DE9-A070DCDD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6651EF-29FD-4B22-B2E3-5A21CCCB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0F318F-F34A-4FB0-BED9-B5227DC1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988521-04DD-4B14-9992-1D077517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5105-2198-46F4-AB75-7A13A910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4E34B1-0438-4320-93AA-DE277D65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FA635-CC24-4DA1-841C-84191E9C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ACD48-CA96-4E1F-8658-50BFD849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57B74-E6C8-49B7-A289-6F9F2311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B6BDEF-4712-403B-A8A8-A5C99AA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3F472-9F41-4CA4-9BC5-88520B14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23F5D-1D83-433C-8ADC-36C2EA8A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C84EB-F39D-460D-B419-2028BD8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02B8B-2390-4AFD-83CC-F75D61C3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05D66-0D37-457A-B8F2-E162C9BB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C18B-CFFE-487F-B61C-7C0D4CC0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D71E56-871A-4191-8775-75365F50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5E16CB-7471-43AF-A859-89A13427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AABFD0-337A-49BA-821B-0F606D3E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D8983-92EF-44F0-BA5B-8BB81981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7DC4A-475A-4DEA-874E-A9234A24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D08910-3855-4249-98C8-44BABBB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4CB42E-BAD5-41A5-A6BE-F4931E8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2579B-326B-4FAE-84E7-089377A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006D58-E126-40A9-90EA-BDA24BB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7E49C-0C9B-4E62-9814-61541834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21F6-F469-4200-BADC-3F8AB01F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16C71-C1BF-4ACA-827F-7937AE37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5B1C0A-D9B3-43C9-8A6C-CD9DD975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4653A3-E9B8-4FD0-9B9E-8DC5700F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F180-BFDE-4A06-A355-574E80B2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296B-7445-4592-A623-B491C487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04B2-54E5-4E8E-8507-458D9F84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99AA-3B85-4136-B038-978D74C6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26E-5675-4DEE-9556-6DCA91DF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B6DE-BDFB-4823-A647-A50896FF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DC9A-FC14-47BA-8581-5B84769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DAF2-CBEB-40A6-90B4-BFFC64B5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49CF-DEBA-4068-A2C8-FFCF9833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B5A0-517C-4B71-8DFB-0081B29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F118-8917-4320-A67B-325CADA7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562D-F8AB-4278-9E72-D3C1B41A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0DA92-87CC-4B52-AB79-8665F72B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4DAD-E383-410A-A66F-7249AB98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6EDD1-99D0-4E75-A7C6-A2E0B0F8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25F-CCD1-4937-B005-BE7DF388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5E92-E680-4ACE-8003-2B2901D2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7C46C-039B-4654-A347-6D9D74F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EE054-436A-4AF8-84C3-66E54867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5EFE7-03DB-401E-AA37-F86AC0B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3E29-1486-4814-A84B-621B9C15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ED56-5D8B-4441-96D0-76E7374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6A88-2AE2-41EA-B1EA-202D232F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3036-5AD4-42FA-A326-E1165A37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5911-CA34-4BAA-957C-F4F7EBF2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A770E-9C44-46C9-921C-042A5522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611-E947-4DCB-9F7B-49BD3CDF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CB42B-89DF-49FD-BD3F-2D3010D3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D183-C685-4D4D-A997-87989E56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BA392-7F9E-41FE-BEBF-C9FC91F5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440AC-62C8-4865-8746-8EC178C4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EEE5-91AD-442A-B1FB-9BC091FD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09CE-3794-4062-A91E-816E785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50DFE-A714-4175-AE53-569388E5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A418-F27C-4FE1-A593-A1A8BCB9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0CEF-5E7E-4CCF-810F-92E2A61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03C96-DAAA-4297-81FC-75959D6E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02D-603E-4C50-BC6C-07F8B54A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E3E0-ED71-486F-B723-364CF0C8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1B1C6-5A9F-4B98-A36D-45827F39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2936-81CF-4B0B-94C2-6D856E9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1295-6ECB-4DBC-BC60-13F992E6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B88F-43C1-42A5-AEBD-44D19014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9800A-FCD9-4CDE-A9EE-0F7EF2D4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C0F48-6459-4791-BF49-B5773F96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E3EB-EC0F-472D-A1D2-B1DE59B7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531BC-6F2F-4EB0-A940-27A3C06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AB04C-F2B0-4556-A778-9F84F7BB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037-4933-4C76-B814-54DDC9E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5CF37-E16C-496C-A13D-C53A155B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C1553-7A34-401A-B83F-7942F8DF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C17D5-6C82-4C98-B0B3-D7403752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2620A-D8A0-41BC-AEB9-68968F96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D7DF9-F9B7-4AEC-A1BE-234C853B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9A1C8-394D-43FB-949B-63730C29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81742-5B61-4E88-A9C0-C0AB79E3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C176B-02B8-428D-AD2E-3471A861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22A0-2566-4D72-959E-64551F87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D153-17E3-4C74-825C-21A6CB5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C79-C40C-4960-9C89-CA6B8814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C4C86-0516-4990-8A97-C12B454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C997C-17C7-4537-8F15-7D4ADF3E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6EA63-1E72-4AE7-B505-B0E0D8D8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1D97A-3339-4119-BE31-3AD05F7B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B4AD-EC63-4B6C-9652-E89A1233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01B9E-3E85-46E6-9F36-0C364091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6F14A-05B5-407D-8523-056AE784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8E139-40EC-480E-8A7A-8C264D38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CC896-AD21-4CF3-8A98-3AD1AD32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4CCD4-B37D-4493-A9A8-FC4CF0FA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F80-288C-45A3-96DD-2CFE1C53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3B8E3-0182-45ED-B89D-999A358F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2FB81-FB75-4A02-99C3-C90745AD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BC45C-F319-4A14-9F9A-30C0E4E2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EFBAD-E4F1-4BA4-AC95-1E75589C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1E291-CAAE-437E-B2D6-BC900BAB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C897E-68D1-4B3A-A243-38007BD7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BBBDA-954A-4818-845B-F2396858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D1728-28AE-4D6E-95E2-D1647258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25EE0-5DB7-451C-AA30-120B385C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CBEB9-ACB8-4BB5-B7FD-56D7159B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431-550E-4EB8-AEDD-4B0355F30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1AC8-7585-4A32-B521-7901D72B00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7C55-E68A-4640-9A8C-0E1799ED0D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CF52-DCDA-4065-ABD9-68D022990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60B5-40CC-4413-ABB5-147C75480E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C1B3-E943-4E14-B3FE-2682150DD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9F68-8DA0-4244-89E4-C19882D9B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461-1277-444E-BED7-B0BC428992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0503-1096-4D00-B977-06E6FE7733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71DC-EE63-496B-A83F-CDAC1BDE98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539E-FC83-4A56-A9DB-54B8C43AF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8CE6-9BEA-48F3-A0F7-74A14C40FF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1EA0-310E-48B5-8F05-2A39480B58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042A-7D03-4600-B3DA-33B5D6ACCC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2228-E497-4CCB-A626-E29407D252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BCF0-837C-4725-AA86-CF080C4AD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737B-F371-4FDE-83EE-BD4250AA55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E726-0A78-4985-BDCE-1F296D07E6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B94E-52E6-4E79-89E7-444F3EA26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8D3C-7BE9-4823-A75D-6F613B989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75F2-9888-46B4-B33A-809F65B99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5E25-F6B7-4DF1-A8A2-62A7E5C522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8111-38FF-49FE-A5AF-E48346297D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9D6E-D711-49E6-806A-5B4AC7010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5E88-AAF1-439B-A4A5-985B231C5A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945-3F2F-4724-8A13-1A9FF1EC35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535F-B197-4278-8CFD-A4A15B0881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77BF-022F-4EBE-9565-9F75657A3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7830-A5F7-471D-A4D9-FA796AAA7A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D145-4F90-4F9B-9054-F109284E6F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F9CD-DEA2-4A6F-B005-2D9C548CEE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E3F4-C5A1-42C7-AE7A-319018366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52BC-CBE8-491C-BC0A-2344E70E93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3D83-C127-4FE0-91E6-46C525D27B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FC2C-A2C2-4910-97CA-59E96C7156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9DBF-B9CA-403F-91B2-B1898865B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7C9A-BACE-458F-9D52-D2A5B8FAEC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9B1E-0D64-4106-B2FF-3BAD07549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2B0E-F79E-4AA0-B6DC-3E8F46A976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EC9-18F2-463F-AAEF-C9A083900C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81080" y="2990880"/>
            <a:ext cx="87818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419040" y="1890720"/>
            <a:ext cx="83059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452520" y="995400"/>
            <a:ext cx="8238960" cy="4867200"/>
          </a:xfrm>
          <a:prstGeom prst="rect">
            <a:avLst/>
          </a:prstGeom>
          <a:ln w="0">
            <a:noFill/>
          </a:ln>
        </p:spPr>
      </p:pic>
      <p:sp>
        <p:nvSpPr>
          <p:cNvPr id="1054" name="矩形 2"/>
          <p:cNvSpPr/>
          <p:nvPr/>
        </p:nvSpPr>
        <p:spPr>
          <a:xfrm>
            <a:off x="1214280" y="1785960"/>
            <a:ext cx="7215480" cy="350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3"/>
          <p:cNvSpPr/>
          <p:nvPr/>
        </p:nvSpPr>
        <p:spPr>
          <a:xfrm>
            <a:off x="1143000" y="2568600"/>
            <a:ext cx="7475400" cy="352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4"/>
          <p:cNvSpPr/>
          <p:nvPr/>
        </p:nvSpPr>
        <p:spPr>
          <a:xfrm>
            <a:off x="1000080" y="3000240"/>
            <a:ext cx="1171800" cy="314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5"/>
          <p:cNvSpPr/>
          <p:nvPr/>
        </p:nvSpPr>
        <p:spPr>
          <a:xfrm>
            <a:off x="857160" y="3714840"/>
            <a:ext cx="7215120" cy="350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6"/>
          <p:cNvSpPr/>
          <p:nvPr/>
        </p:nvSpPr>
        <p:spPr>
          <a:xfrm>
            <a:off x="928800" y="4917960"/>
            <a:ext cx="7715160" cy="351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7"/>
          <p:cNvSpPr/>
          <p:nvPr/>
        </p:nvSpPr>
        <p:spPr>
          <a:xfrm>
            <a:off x="689040" y="5372280"/>
            <a:ext cx="721512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66560" y="752400"/>
            <a:ext cx="8210880" cy="53532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21472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371484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19040" y="9144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85716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235728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928800" y="428616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57200" y="847800"/>
            <a:ext cx="8229600" cy="516240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928800" y="92880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928800" y="235728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928800" y="392904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47560" y="2052720"/>
            <a:ext cx="8048880" cy="2752560"/>
          </a:xfrm>
          <a:prstGeom prst="rect">
            <a:avLst/>
          </a:prstGeom>
          <a:ln w="0">
            <a:noFill/>
          </a:ln>
        </p:spPr>
      </p:pic>
      <p:sp>
        <p:nvSpPr>
          <p:cNvPr id="1035" name="矩形 2"/>
          <p:cNvSpPr/>
          <p:nvPr/>
        </p:nvSpPr>
        <p:spPr>
          <a:xfrm>
            <a:off x="928800" y="207180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1000080" y="321480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191440" cy="4257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642960" y="5000760"/>
            <a:ext cx="8029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81040" y="1890720"/>
            <a:ext cx="79819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685800" y="1062000"/>
            <a:ext cx="7772400" cy="473400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1143000" y="1071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1143000" y="15001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1136520" y="19065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1143000" y="26431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1143000" y="3429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"/>
          <p:cNvSpPr/>
          <p:nvPr/>
        </p:nvSpPr>
        <p:spPr>
          <a:xfrm>
            <a:off x="1143000" y="38577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"/>
          <p:cNvSpPr/>
          <p:nvPr/>
        </p:nvSpPr>
        <p:spPr>
          <a:xfrm>
            <a:off x="1071720" y="42148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9"/>
          <p:cNvSpPr/>
          <p:nvPr/>
        </p:nvSpPr>
        <p:spPr>
          <a:xfrm>
            <a:off x="1071720" y="45720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0"/>
          <p:cNvSpPr/>
          <p:nvPr/>
        </p:nvSpPr>
        <p:spPr>
          <a:xfrm>
            <a:off x="1071720" y="50007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"/>
          <p:cNvSpPr/>
          <p:nvPr/>
        </p:nvSpPr>
        <p:spPr>
          <a:xfrm>
            <a:off x="1214280" y="54291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466560" y="1066680"/>
            <a:ext cx="8210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8:2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